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E40B-47FA-4604-BB36-4937FE0C0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2633-E75A-4285-828D-B0BED0A57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7C5D-11BD-4F53-A782-26F1C7760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7832-EEE7-47D3-872A-A4BACD587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96B9-5AAA-43D9-A94A-1755ED306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12D4-9EED-4F1A-8A63-0CC0C2B3B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AEC0-F488-43AA-AEB5-79B67E8C4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0AD0-6FA5-4047-8F53-7CDE0B4BA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51D5-12E9-4A95-B386-9C45BBB00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00F1-C348-4CB4-B8FD-9C014B18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BAAB-3712-4273-B24C-4C79BB3F8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B22E-F667-4097-8EAE-C86104BC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EEAC1-F681-4CD2-84C3-B98A85AF52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istmas Needs and Want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00240" y="1066680"/>
            <a:ext cx="3809880" cy="552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19080" rIns="19080" tIns="19080" bIns="19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3" name="Subtitle 2"/>
          <p:cNvSpPr/>
          <p:nvPr/>
        </p:nvSpPr>
        <p:spPr>
          <a:xfrm>
            <a:off x="533520" y="1066680"/>
            <a:ext cx="3809880" cy="5486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istmas Needs and Wa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4038480" cy="50292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Need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648320" y="1600200"/>
            <a:ext cx="4038480" cy="5029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a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C:\Users\dwilliams2\AppData\Local\Microsoft\Windows\Temporary Internet Files\Content.IE5\0BGZMD06\MP900446391[1].jpg"/>
          <p:cNvPicPr/>
          <p:nvPr/>
        </p:nvPicPr>
        <p:blipFill>
          <a:blip r:embed="rId1"/>
          <a:stretch/>
        </p:blipFill>
        <p:spPr>
          <a:xfrm>
            <a:off x="304920" y="0"/>
            <a:ext cx="1055520" cy="1539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C:\Users\dwilliams2\AppData\Local\Microsoft\Windows\Temporary Internet Files\Content.IE5\1O30OZU4\MP900448422[1].jpg"/>
          <p:cNvPicPr/>
          <p:nvPr/>
        </p:nvPicPr>
        <p:blipFill>
          <a:blip r:embed="rId2"/>
          <a:stretch/>
        </p:blipFill>
        <p:spPr>
          <a:xfrm>
            <a:off x="7696080" y="198360"/>
            <a:ext cx="13604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3T17:25:10Z</dcterms:created>
  <dc:creator>Deborah Williams</dc:creator>
  <dc:description/>
  <dc:language>en-US</dc:language>
  <cp:lastModifiedBy>Deborah Williams</cp:lastModifiedBy>
  <dcterms:modified xsi:type="dcterms:W3CDTF">2012-12-03T17:31:54Z</dcterms:modified>
  <cp:revision>2</cp:revision>
  <dc:subject/>
  <dc:title>Christmas Needs and Wants</dc:title>
</cp:coreProperties>
</file>